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7384-1C0A-49F3-973C-D6BF27E2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B792-44A6-4C8A-AE27-A5DE94DA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1A94-2621-4E57-9322-A411F170B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567D-672D-484A-BDFE-55B33F52D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9F9A-1B43-43E1-A455-B6AAAC67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D31C-26DF-44F2-904B-8132D73A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213D-726F-4BD7-8866-FAC9CBB4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84A9-C6DF-4DF5-87CA-73D7423D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BED7-2EF3-4540-A8DC-168E5712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3946-03EC-473F-A0BD-D9D030B4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6DB8-E15F-4052-9E1D-694FE267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91E6-4EA0-4BF8-9ACB-657E64CC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93F6-FCA3-4E79-A6B2-FCE16A24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C0B4-8FF9-45B6-A58B-21340D59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3059-DE0F-42C9-AF53-6DFBBEEE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11FD-FF90-4109-9B32-FCCB3DEDE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1F13-F3D3-43ED-8803-873EC96C8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5C26-974D-4F25-ACF7-D1086937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C849-D7D2-40C4-B693-4B48670E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A988-2160-4B7C-8238-ADB3DD07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33A9-63B5-4E9F-9435-1A970661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E9E4-84F5-44B2-BCFF-F9E5041C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8A32-8455-4D16-B0C2-D3C82B71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5E61-0FE3-448F-9FDD-E66E0B4A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46200" indent="-24840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994320" indent="-19872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392120" indent="-19872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789920" indent="-19872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789920" indent="-19872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789920" indent="-19872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3BA5-C4EF-4938-ACEC-1CACA643B5C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E9FC-8621-47E3-BB47-D784C0CD81C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elcome Mom and Dad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r. Lucci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rth Grade Spring Conferenc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rch 19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5440" y="2590920"/>
            <a:ext cx="3809880" cy="3504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 you for coming!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ny questions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923760" cy="690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467480" y="2286000"/>
            <a:ext cx="9241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Read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8001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ading skills I have worked on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amma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arts of speec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favorite books I’ve read in clas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ayside School is Falling Dow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Series of Unfortunate Events: Book 13 The En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2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2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Math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9320" y="2437920"/>
            <a:ext cx="716256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th skills that I have worked o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cimal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raction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ouble digit multiplic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y favorite activity to do in math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ultiplic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uzz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ivis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2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2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cience and Social Studi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281952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cie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ircuit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ystery box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cosystem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cial Studi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p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Job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outh east reg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Writ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ic strip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reative writ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tended respons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y favorite experiences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8320" y="2057040"/>
            <a:ext cx="449568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king terrarium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ving class parties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oing to the U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5800" y="2690640"/>
            <a:ext cx="3809880" cy="2848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ings I’m good at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ultiplica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ad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ying atten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2362320"/>
            <a:ext cx="716256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ings I need to work on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36232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ist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ra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y Goals for the next three months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listen better by being quie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write neater by taking my tim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pay attention more by focusing on what we are doing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7:13:09Z</dcterms:created>
  <dc:creator>NSSD112</dc:creator>
  <dc:description/>
  <dc:language>en-US</dc:language>
  <cp:lastModifiedBy>nssd112</cp:lastModifiedBy>
  <dcterms:modified xsi:type="dcterms:W3CDTF">2009-06-04T17:10:27Z</dcterms:modified>
  <cp:revision>29</cp:revision>
  <dc:subject/>
  <dc:title>Welcome Mom and Dad!</dc:title>
</cp:coreProperties>
</file>